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2C8-9ABF-4E6D-8B98-26D02153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034-1E22-41B3-B8F9-F464945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DC4-FD73-4F34-B4DD-A85D2B0E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FF8-AB97-4426-808C-AFA99C64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9D4-ED53-4429-A251-5D7C907B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445-C131-4003-81A2-597EB693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AB1-7B79-47AE-93D7-61927082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E1C-97F4-4844-A293-550C5A7F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90F-B16D-48F6-9E92-B764875A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FA5-5417-4ED1-A0B6-5D3CE061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311-F052-4048-B442-6A57B9B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FDA-D57E-4F2D-A98B-7468F28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F563-994F-4F57-8D8D-3A15972AA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NIMBYs have in their back gard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1b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5:01:13Z</dcterms:created>
  <dc:creator>sthobbsc</dc:creator>
  <dc:description/>
  <dc:language>en-US</dc:language>
  <cp:lastModifiedBy>sthobbsc</cp:lastModifiedBy>
  <dcterms:modified xsi:type="dcterms:W3CDTF">2007-01-04T15:01:22Z</dcterms:modified>
  <cp:revision>1</cp:revision>
  <dc:subject/>
  <dc:title>What do NIMBYs have in their back gardens?</dc:title>
</cp:coreProperties>
</file>